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148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58520"/>
            <a:ext cx="4863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148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17CC0C6-3541-492B-9220-9C341CF270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директор по внедрению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моего выступления : «Решения компании Геликон Про: опыт и перспекти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нялись увеличением скорости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решения мы с самого начала создавали в тесной увязке друг с другом. И теперь можем предложить нашим клиентам комплексные замкнут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наши решения созданы не на зыбкой почве абстрактных теорий, а на фундаменте большого практического опы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 можно констатировать, что мы умеем решать задачи для предприятий с самой разной отраслевой специф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подведя итоги, теперь следует сказать несколько слов о перспекти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мы собираемся более активно делиться с нашими клиентами предметными знаниями и проектным опытом. Мы уже выпустили три руководства для прикладных программистов по бухгалтерским операциям, расчету заработной платы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мы постоянно анализируем и обобщаем проектный опыт для развития и усовершенствования методологии внедр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ечественная промышленность сегодня функционирует в следующих услов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усложняются структура и технолог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повышаются требования клиентов к качеству продукции и уровню обслуж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родолжается существенный рост цен практически на  вс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обостряется конкуренция не только с отечественными, но и с зарубежными произв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их условиях особую роль для предприятия начинает играть система производственного планирования, т.к. качественное и своевременное планирование позво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кратить издерж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увеличить эффективность использования производственных ресурсов и мощ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овысить уровень обслуживания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на российском рынке предлагается множество отечественных и зарубежных сист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P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а. Но все они по тем или иным параметрам далеки от совершенства. Поэтому наша компания поставила перед собой цель создать собствен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у для средни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1,5-2 лет в рамках системы Капитал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оздадим необходимый набор модулей для реализации системы производственного планир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6760" y="76032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36800"/>
            <a:ext cx="4862520" cy="4484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007-5AB4-4030-8889-A199BDCE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1F0-D750-4704-9699-FCDD4127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844-63DD-4547-9415-A5849975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337-55EB-44EF-85D6-D198A0D9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007-4C1E-445E-B242-38D2E72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D52-04AA-4CAA-87A8-6C20F87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F52-918A-4896-96BA-D7A1E0A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0EF-CE2E-4245-8DD5-7FD6638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20A-16C5-4752-AE72-6E300D12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D18-AED9-49B2-A488-F019A51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339-D16C-472A-81DB-A19E7C0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A54-55D9-4BEF-9AAF-4D2F3FC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DB3-F21F-45B8-AD3A-F421ED6EE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637000"/>
            <a:ext cx="5238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шения компании Геликон П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4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76680" y="505764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94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7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1560" y="1093680"/>
            <a:ext cx="804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НАКОПЛ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5040" y="2185920"/>
            <a:ext cx="5868720" cy="3797280"/>
            <a:chOff x="1535040" y="2185920"/>
            <a:chExt cx="5868720" cy="3797280"/>
          </a:xfrm>
        </p:grpSpPr>
        <p:sp>
          <p:nvSpPr>
            <p:cNvPr id="104" name=""/>
            <p:cNvSpPr/>
            <p:nvPr/>
          </p:nvSpPr>
          <p:spPr>
            <a:xfrm>
              <a:off x="5935320" y="535464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5040" y="218592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0840" y="229572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0840" y="527076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3760" y="536256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9680" y="536256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0840" y="285444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0840" y="40482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480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96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1440" y="327348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6120" y="447840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30400" y="348300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3960" y="348300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4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30320" y="106524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1400" y="2711520"/>
            <a:ext cx="863280" cy="685440"/>
            <a:chOff x="671400" y="2711520"/>
            <a:chExt cx="863280" cy="685440"/>
          </a:xfrm>
        </p:grpSpPr>
        <p:sp>
          <p:nvSpPr>
            <p:cNvPr id="152" name=""/>
            <p:cNvSpPr/>
            <p:nvPr/>
          </p:nvSpPr>
          <p:spPr>
            <a:xfrm>
              <a:off x="67140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0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76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12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060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908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1200" y="3465360"/>
            <a:ext cx="15130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а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0480" y="3465360"/>
            <a:ext cx="160812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наб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сб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596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00160" y="2722680"/>
            <a:ext cx="863280" cy="685440"/>
            <a:chOff x="2000160" y="2722680"/>
            <a:chExt cx="863280" cy="685440"/>
          </a:xfrm>
        </p:grpSpPr>
        <p:sp>
          <p:nvSpPr>
            <p:cNvPr id="162" name=""/>
            <p:cNvSpPr/>
            <p:nvPr/>
          </p:nvSpPr>
          <p:spPr>
            <a:xfrm>
              <a:off x="200016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816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52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488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9560" y="2724120"/>
            <a:ext cx="863280" cy="685440"/>
            <a:chOff x="2779560" y="2724120"/>
            <a:chExt cx="863280" cy="685440"/>
          </a:xfrm>
        </p:grpSpPr>
        <p:sp>
          <p:nvSpPr>
            <p:cNvPr id="167" name=""/>
            <p:cNvSpPr/>
            <p:nvPr/>
          </p:nvSpPr>
          <p:spPr>
            <a:xfrm>
              <a:off x="277956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92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428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56200" y="2724120"/>
            <a:ext cx="863280" cy="685440"/>
            <a:chOff x="5956200" y="2724120"/>
            <a:chExt cx="863280" cy="685440"/>
          </a:xfrm>
        </p:grpSpPr>
        <p:sp>
          <p:nvSpPr>
            <p:cNvPr id="172" name=""/>
            <p:cNvSpPr/>
            <p:nvPr/>
          </p:nvSpPr>
          <p:spPr>
            <a:xfrm>
              <a:off x="595620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420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092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554960" y="2719440"/>
            <a:ext cx="863280" cy="685440"/>
            <a:chOff x="7554960" y="2719440"/>
            <a:chExt cx="863280" cy="685440"/>
          </a:xfrm>
        </p:grpSpPr>
        <p:sp>
          <p:nvSpPr>
            <p:cNvPr id="177" name=""/>
            <p:cNvSpPr/>
            <p:nvPr/>
          </p:nvSpPr>
          <p:spPr>
            <a:xfrm>
              <a:off x="755496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6296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132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968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18120" y="2714760"/>
            <a:ext cx="863280" cy="685440"/>
            <a:chOff x="4218120" y="2714760"/>
            <a:chExt cx="863280" cy="685440"/>
          </a:xfrm>
        </p:grpSpPr>
        <p:sp>
          <p:nvSpPr>
            <p:cNvPr id="182" name=""/>
            <p:cNvSpPr/>
            <p:nvPr/>
          </p:nvSpPr>
          <p:spPr>
            <a:xfrm>
              <a:off x="421812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612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3448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284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0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17720" y="77940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52960"/>
            <a:ext cx="6950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6040" y="198756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Е СКО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2728800"/>
            <a:ext cx="69501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эффективн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200" y="21589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49600" y="45543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6280" y="503712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методологии внед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79560" y="893880"/>
            <a:ext cx="70930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РЕМЕННЫЕ УСЛОВИЯ ФУНКЦИОНИРОВАНИЯ ОТЕЧЕСТВЕН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80960" y="3094200"/>
            <a:ext cx="7518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структуры и технологий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требований клиентов к качеству продукции и уровн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енный рост цен на вс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острение конкуренции с отечественными и зарубежными произв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83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СТОИНСТВА СИСТЕМЫ ПРОИЗВОДСТВЕННОГО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846520"/>
            <a:ext cx="7518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ие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ение эффективности использования производственных ресурсов и 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уровня обслуживания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30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956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РОССИЙСКАЯ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RP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9120" y="2751120"/>
            <a:ext cx="7518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41960" y="2101680"/>
            <a:ext cx="59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овые функциональные мод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4-04-12T13:35:48Z</cp:lastPrinted>
  <dcterms:modified xsi:type="dcterms:W3CDTF">2004-04-13T09:44:57Z</dcterms:modified>
  <cp:revision>280</cp:revision>
  <dc:subject/>
  <dc:title>Слайд 1</dc:title>
</cp:coreProperties>
</file>